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F3F-2746-428C-94F1-5F2AFE56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8F8-2264-4E3C-90E3-EC8D77B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9F0-B37A-46A0-8512-A467865B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CD7-A20B-4EF0-85D8-36BCF5E9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E14-802F-4DB0-B202-0FA0A6EE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80F5-EC6D-4302-977B-76AE48C8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7CC-D10D-4624-A440-3D3A342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6631-2CCA-4376-9CA6-F127017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752-311D-47BF-A9DB-9BD2114A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CA8-BE2C-4818-85D8-3F1ED64B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883D-CBBD-4779-80A8-9D737157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6B2-83C0-4C81-BF27-B060C069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3979-D1D0-4F41-9929-EC2CD3F7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EE93-3112-48CC-8952-EB3D9E77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0060-4106-4545-94B0-4025452B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492B-71F2-4C71-ACCF-D613D670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6A03-8363-48B4-8546-DE2DC7D9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9B0-BF46-419D-888C-F801CDE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9B3-621E-44D7-9EFD-BD918979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889-426B-4655-A3A2-7FDFC049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698-67B3-4B2E-A23C-61C5A36F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914-2221-4070-A629-18DF882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F44-6C64-463E-B1D2-58BEBC8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B5C-9465-4AE4-82D3-D9D84EE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6E3-F787-4ED0-B213-5F01183598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8A4D-3CDA-4156-AE39-BB796C37E2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bswxrk.files.wordpress.com/2010/03/bieber_cody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enudospeques.net/images/recursos_infantiles/cuentos/colores_04.jpg&amp;imgrefurl=http://juegospaula.blogspot.com/&amp;usg=__JLGLeDB2FyJvF9KH3ZDQOdNTSSQ=&amp;h=332&amp;w=441&amp;sz=27&amp;hl=en&amp;start=19&amp;itbs=1&amp;tbnid=NqTPr1-qtIcTJM:&amp;tbnh=96&amp;tbnw=127&amp;prev=/images%3Fq%3Dlos%2Bcolores%26hl%3Den%26safe%3Dactive%26gbv%3D2%26ndsp%3D20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olarpowerwindenergy.org/wp-content/uploads/2009/08/VestasV80_7_final.jpg&amp;imgrefurl=http://www.solarpowerwindenergy.org/2009/08/06/an-overview-of-wind-power-industry-and-few-guidelines-regarding-renewable-energy-jobs/&amp;usg=__zPu7Nyu50Dkbc3LjRBh7IPKdNKY=&amp;h=333&amp;w=371&amp;sz=60&amp;hl=en&amp;start=4&amp;itbs=1&amp;tbnid=XXCNFKqD8gGJ5M:&amp;tbnh=110&amp;tbnw=122&amp;prev=/images%3Fq%3Ddifferent%2Bkinds%2Bof%2Bjobs%26hl%3Den%26safe%3Dactive%26sa%3DX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brentwood.thefuntimesguide.com/images/blogs/ravenwood-high-school-brentwood-tn.jpg&amp;imgrefurl=http://brentwood.thefuntimesguide.com/2007/06/brentwood_and_ravenwood_high_s.php&amp;usg=__fCv5kPIBscBOIs99WC4oZCAO1_4=&amp;h=452&amp;w=600&amp;sz=216&amp;hl=en&amp;start=20&amp;itbs=1&amp;tbnid=_tcXkHC61VxNoM:&amp;tbnh=102&amp;tbnw=135&amp;prev=/images%3Fq%3Dschools%26hl%3Den%26safe%3Dactive%26gbv%3D2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northamptonshire.gov.uk/en/councilservices/asc/services/older/PublishingImages/house.jpg&amp;imgrefurl=http://www.northamptonshire.gov.uk/en/councilservices/asc/services/older/Pages/Equipment.aspx&amp;usg=__sRcRIkUBDVwDkdZqeBxwKwGLRB0=&amp;h=458&amp;w=500&amp;sz=57&amp;hl=en&amp;start=10&amp;itbs=1&amp;tbnid=3wyKAkS1G2IL2M:&amp;tbnh=119&amp;tbnw=130&amp;prev=/images%3Fq%3Ddifferent%2Bparts%2Bof%2Bthe%2Bhouse%26hl%3Den%26safe%3Dactive%26gbv%3D2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zignus.com/wp-content/uploads/2008/04/clothes1.jpg&amp;imgrefurl=http://dezignus.com/clothes-photos/&amp;usg=__aPe9BcEpoAJZvt7awrwNb77p_PY=&amp;h=981&amp;w=575&amp;sz=156&amp;hl=en&amp;start=8&amp;itbs=1&amp;tbnid=bxFv70jFEV9YZM:&amp;tbnh=149&amp;tbnw=87&amp;prev=/images%3Fq%3Dclothes%26hl%3Den%26safe%3Dactive%26gbv%3D2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Script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cript MT Bold"/>
              </a:rPr>
              <a:t>Larissa y quyne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71600" y="838080"/>
            <a:ext cx="609588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la clase de espanol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famil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herma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ma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pap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herman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581280"/>
            <a:ext cx="35053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s colores 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zu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j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arol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3733920"/>
            <a:ext cx="30477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s trabaj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nsru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maest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057400"/>
            <a:ext cx="2762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escue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llwood-ward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bson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 mile charter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on eleme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133720"/>
            <a:ext cx="2209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cas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b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oc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uar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 comed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sa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2057400"/>
            <a:ext cx="266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rop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cames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 pantal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sapa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fal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2057400"/>
            <a:ext cx="2361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ies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x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atema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carol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2800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2:57Z</dcterms:created>
  <dc:creator>WSFCS Workstation</dc:creator>
  <dc:description/>
  <dc:language>en-US</dc:language>
  <cp:lastModifiedBy>WSFCS Workstation</cp:lastModifiedBy>
  <dcterms:modified xsi:type="dcterms:W3CDTF">2010-04-28T18:58:51Z</dcterms:modified>
  <cp:revision>3</cp:revision>
  <dc:subject/>
  <dc:title>Slide 1</dc:title>
</cp:coreProperties>
</file>